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804-A325-445B-A854-61E60E53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468-B3F3-4C61-ADC3-7BB8692E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333-5255-491B-827B-25AB88F6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C2B-16E8-4F45-9AB6-76E3C6AD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1D01-5F7D-41EC-A711-5CE1217C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A1C1-DD60-4E77-88EE-A156F78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8719-D19B-4087-BDEB-1E0256D1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A32B-E3A8-4AE1-B953-96188F45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39EF-4E65-432F-8A83-5E8CC5D7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EB37-9CEE-4766-916F-C8D62280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C2C9-16C1-4611-AC8F-29C787F2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531-E404-4071-81EA-FA9F58AE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83D3-BC02-44FD-BFE6-69C7D2CF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AFFE-A6AF-4F4A-BD08-D11ED2C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00E4-5B77-4B6D-8B1C-1F26C246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864A-5EBD-4388-8B51-86154F46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1DAF-4331-490E-888B-21D87846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9D43B-A682-4514-BB4F-60D64B55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12059-1989-4D65-821A-6AEE5E42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BD46-0C07-45CC-8FCB-E46871AF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7A0B-C859-4AB3-ADC5-4D15A8FA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A989-39E8-4AC2-9580-7B3506E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3E2-3471-40EE-9A6A-EE8DD84D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E451-D35A-4DBE-8F80-1B429FF1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6A91-8E03-4E4D-84CE-989EB2A2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87DA-893A-4C5C-9487-D4917CB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BE07-0F5C-4129-86EF-47A901D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5454-EC53-4721-9DB6-4B9D46BE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1A40-AD8D-4E28-BE17-731706BE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F2B3-0573-4EA9-9835-CA5649EA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F811-949C-46B9-B430-C755CD84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F000-2652-4894-9F77-104EF6AC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DD40-22B7-46BE-9DB4-8A376B4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A6E-5227-40DF-A770-2E8B248C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342D1-BCF2-4B9D-9935-7A318CF0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DF51-987A-41F8-A96F-1AD0E5BC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BE5E-1893-4AC3-A7BD-54B087C1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28F4-1424-4985-BB56-87231DC5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1D2D-A3D5-4D36-8AC2-293B2A7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D622-465F-443A-961B-743849B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4FFD-330D-4EA0-82B4-A01085B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ABDA-C927-4F74-85B1-151C6F4F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4A7C4-7682-486C-ACB0-FCA4CEE2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3D72-7261-486F-9F49-5DFF7851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171-01B8-4874-93E1-D7B81FF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F29F0-E250-4EF6-B8A7-C42CC5AF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9847B-BBD6-40B3-814C-1F83F7F8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034A-4BEC-4255-8DA6-10AA732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E548-2EEA-4BEB-9322-87173EF7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06D6-3E35-4F74-BBB6-C04A4A21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021E-018A-419D-A502-92CFB944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18968-094E-4B76-85E6-74C2F59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E0B23-A092-48A7-8848-DEA33D6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BB21-D126-4310-9673-DA674F0E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B0FF-D4B6-4770-8142-71FD636F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8A2-F3F9-4F5F-8EA7-D4049B66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2232-E172-4238-AE87-1E48A475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6668-0925-4480-9027-9A2348B8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BEB7B-CD50-44F8-A41B-D1586128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7638-1AD0-40B8-B1DD-0B3C0F3A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CF6E-996B-4C45-A0E1-DAC66ECA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0B91-181A-421D-823F-8FE7482F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E6310-AB6B-43D0-9B0C-AB1E0BF2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E36C-5618-4E1D-AEAE-68391C1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FBC7-5778-4AE5-9244-DF8A9EF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D213-FFC1-4C96-8ACC-5476CA1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BE9-64D5-4A11-B679-C9B6ED0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B855-4B28-4BFD-8652-6A32EB26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5D031-836D-4048-8121-82A02B7C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28AD8-2123-4A3D-B65B-2F7BC94A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891A4-6AFA-41E9-B101-F537AD2E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DF2AC-7873-44F2-A344-8715EBA9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E0894-6476-4B4F-8C30-FD73B864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2FF07-CC33-4EAA-8CBA-418F690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84DF-D22A-4D09-9A79-F2A02754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16D85-7FCD-48EE-A8B9-E53086F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2BCA-4225-400E-A227-8A21B1E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EC5-A00D-48E6-B1E1-717405A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7C931-5C3F-479B-96BD-ACC51C0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217A5-9116-4EDE-9897-3A36EB9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6FC14-A0C9-4A6A-A228-C616D37E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EE75-C974-4611-9BDE-50F75685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B4078-E2B2-497B-B527-3FD0E0C3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D23CF-45EF-4604-B2DC-EE3FDDCE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B494D-15A1-456D-8640-37829962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34365-313F-41CA-A614-9ACAF85B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9987-C409-4315-88E6-878DFEE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58950-7A4E-4E0A-9E84-4468A93D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8C1-55EC-4828-AD60-77E24D15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19868-2B32-437D-AFB8-C8E70E23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09FA7-969E-4675-9C3B-F014289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D10D3-0173-4967-8137-71F36C0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7022E-CA2F-4864-831B-1C9895D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E51E2-8D7B-4EB4-BE24-C19EE5D5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D418F-0D97-40E4-9767-262D8538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B641-C691-403F-98D3-81CEA737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C15B-F425-4F8F-B333-867B855EFB2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CCD4-75DE-4434-B158-5A50AE422343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0638-1614-4473-A1D5-810D5F7584FB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1B7F-3AC9-443D-955B-8114457D5B3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40F0-A7BE-44A0-9862-29831B414B57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FEDA-7EDC-461C-9B84-8F68B4A86FD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239A-B899-460F-8E39-3955C480C62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F06C-FD26-4D61-8133-F23DB648E06C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4617b"/>
                </a:solidFill>
                <a:latin typeface="Lucida Sans Unicode"/>
              </a:rPr>
              <a:t>Meeanee Sch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4617b"/>
                </a:solidFill>
                <a:latin typeface="Lucida Sans Unicode"/>
              </a:rPr>
              <a:t>Kelly McK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84140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14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he main aim at Meeanee School is to record our learning journeys by using ePortfolios. Each teacher is to develop their own ePortfolio, using Powerpoint. Powerpoint is seen as a consistent tool that everyone is familiar with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5400" indent="1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5400" indent="1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ICT goals were developed as a need for student engage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ICT is our current schoolwide focus so therefore our goals are reflected in our ePortfolios.  Teachers can extend their ePortfolios beyond ICT though as they see f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Teachers have set 1 or 2 ICT goals as part of appraisal at Meeanee, which is linked to inquiry learn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As a staff we are meeting fortnightly.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We have ICT buddies to keep each other on track – discussions and feedback and feedforward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Emphasis on interactive tools and ICT tools that are already in the school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Increase confidence in use of IT tools to enhance lear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Extend knowledge of IT resources to enhance student eng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Improve understanding of IT infrastructure to support staff and strategic plan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Develop an ePortfolio which reflects goals, professional development and my reflections on impact on learning for students and mysel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o support ICT Lead teacher in achieving schoolwide initia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o share developing skills, knowledge and classroom practices with all staff (intranet, ICT Buddy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0680"/>
            <a:ext cx="82296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o be an effective lead teacher of I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Sharing knowledge with other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Show my learning journey through my learning ePortfoli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1"/>
          <p:cNvSpPr/>
          <p:nvPr/>
        </p:nvSpPr>
        <p:spPr>
          <a:xfrm>
            <a:off x="468360" y="3284640"/>
            <a:ext cx="8229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o engage student learning by using I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22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o increase the use of ICT tools and develop confid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2240" indent="-255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"/>
          <p:cNvPicPr/>
          <p:nvPr/>
        </p:nvPicPr>
        <p:blipFill>
          <a:blip r:embed="rId1"/>
          <a:stretch/>
        </p:blipFill>
        <p:spPr>
          <a:xfrm>
            <a:off x="2901960" y="1255680"/>
            <a:ext cx="6570720" cy="4767120"/>
          </a:xfrm>
          <a:prstGeom prst="rect">
            <a:avLst/>
          </a:prstGeom>
          <a:ln w="0">
            <a:noFill/>
          </a:ln>
        </p:spPr>
      </p:pic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250920" y="2637000"/>
            <a:ext cx="34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The value to my own practice is developing confidence, building up a resource bank and reflecting on the outcomes from modelling and setting tasks.”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"/>
          <p:cNvPicPr/>
          <p:nvPr/>
        </p:nvPicPr>
        <p:blipFill>
          <a:blip r:embed="rId1"/>
          <a:stretch/>
        </p:blipFill>
        <p:spPr>
          <a:xfrm>
            <a:off x="3906720" y="268200"/>
            <a:ext cx="6218280" cy="6577200"/>
          </a:xfrm>
          <a:prstGeom prst="rect">
            <a:avLst/>
          </a:prstGeom>
          <a:ln w="0">
            <a:noFill/>
          </a:ln>
        </p:spPr>
      </p:pic>
      <p:pic>
        <p:nvPicPr>
          <p:cNvPr id="387" name="Title 2" descr=""/>
          <p:cNvPicPr/>
          <p:nvPr/>
        </p:nvPicPr>
        <p:blipFill>
          <a:blip r:embed="rId2"/>
          <a:stretch/>
        </p:blipFill>
        <p:spPr>
          <a:xfrm>
            <a:off x="-225360" y="122400"/>
            <a:ext cx="8497800" cy="11523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179280" y="1054440"/>
            <a:ext cx="46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skills in our digital citizenship model relates to staff and will be reflected in ePortfolio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0:13:19Z</dcterms:created>
  <dc:creator>Casey</dc:creator>
  <dc:description/>
  <dc:language>en-US</dc:language>
  <cp:lastModifiedBy>Ministry of Education</cp:lastModifiedBy>
  <dcterms:modified xsi:type="dcterms:W3CDTF">2011-05-11T01:57:50Z</dcterms:modified>
  <cp:revision>7</cp:revision>
  <dc:subject/>
  <dc:title>ePortfolios</dc:title>
</cp:coreProperties>
</file>